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1C1172-32E2-4E2D-8671-D1D7CB17A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686EC-13A4-4335-899D-C4A92EE4A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B7E91D-87B8-4514-9A46-070BFF4619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B30614-787D-4BCC-AD3C-56F7BCD330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E9E68-4FBC-44EF-AA51-826BA000D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19A1A-E2D2-404F-80B9-98B6B8826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62EF4-2D2A-4B23-B9C4-D5A33EA7C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46631-B71A-479A-95A4-169D71476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87C4-36D9-4ED6-8C97-44FCF6697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E9D1-DDA8-43C2-8D5E-DED7162B7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FB271-089C-4B32-9768-B8A6E5EED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FEC22-A521-4949-BC96-FEC3683E7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D6FA1-2957-45D9-8DF3-B11FA5A6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D46A3-C908-4358-9FB3-1DFCA036B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6FDED-D44C-4582-869C-CB41DDCBB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D8B9B-59F6-4499-AD4F-0811F3F9A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E495B-188A-4FA0-AD07-4424538CA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11931-3595-4B67-B012-E999590CF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9FAB5-0A8E-4113-9750-CF52F7BC8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E048D2-AACE-4A4A-AACB-4EF00D08B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6FE225-097D-42BF-BE79-9034C661A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72EE80-D676-46EB-A241-D0B4E316A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30A1E-CDBE-43F9-91F3-2BEBDBA22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288FA-575C-4FC8-AAE1-7F81B2FA55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6FCA-D6E9-49A8-8A4C-63C9CCBFDB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0451-5B21-4C97-A6E4-62F04E249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rspa.com/docs/sqapla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CM Plan and SQA Pl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7</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5BAA293-B4AE-4B6B-93B1-6689F6C2CF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2</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the allocation of software configuration management activities to organizational units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Directives and Procedure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xternal constraints, or requirements, placed on the SCM Plan by other policies, directives, or procedures must be identified here. A detailed impact analysis should accompany the identification of external constraint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D9214A-4F80-4858-A30F-E54C9A52C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ctivities - 1</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Identifies all functions and tasks required to manage the configuration of the software system as specified in the scope of the SCM Plan. Both technical and managerial activities must be identifi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30F685-0A05-44AB-ADA9-F9298C2D17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2</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Identification</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Identify, name, and describe the documented physical and functional characteristics of the code, specification, design, and data elements to be controlled for the project. The Plan must identify the items to be maintained in configuration management control</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configuration item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ing configuration items</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ing configuration i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A45B4F-6EB6-4FAF-9F8F-0F23B1955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3</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Control</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figuration control activities request, evaluate, approve or disapprove, and implement changes to the software configuration items. Changes include both error correction and enhancement. This section shall identify the records to be used for tracking and documenting the sequence of steps for each change</a:t>
            </a:r>
            <a:r>
              <a:rPr b="0" lang="en-US" sz="2800" spc="-1" strike="noStrike">
                <a:solidFill>
                  <a:srgbClr val="000000"/>
                </a:solidFill>
                <a:latin typeface="Arial"/>
              </a:rPr>
              <a:t> </a:t>
            </a:r>
            <a:endParaRPr b="0" lang="en-US" sz="28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8D0B87-2B2E-48EE-B1C9-42533D8CB4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4</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Control (cont’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chang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chang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ing or disapproving chang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49C626-172B-4CD1-8D20-4E1575FD4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5</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Status Accoun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Record and report the status of configuration items. The following minimum data elements should be tracked and reported for each configuration management item:</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Approved vers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Status of requested chang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Implementation status of approved chang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518A88-E893-4FF9-954C-A338655EC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6</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udits and Reviews</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figuration audits determine the extent to which the actual configuration management items reflect the required physical and functional characteristics. Configuration reviews may also be designed a  management tool used to ensure that a software configuration management baseline is establishe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52EEC6-13FC-4AF6-8FC1-C89708570E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7</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Contro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ordinates changes to the project's configuration management items with changes to interfacing items outside the scope of the SCM Pl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87F4C6-2273-45A4-8C18-B219E05A4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 8</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ntractor/Vendor Control</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For acquired software, the Software Configuration Management Plan shall describe how the vendor software will be received, tested, and placed under software configuration management control</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For both subcontracted and acquired software, the SCM Plan must define the activities to be performed to incorporate the externally developed items into project configuration management and to coordinate changes to these item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8E7EAD-51E1-4B53-956D-7665881CC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esources - 1</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Establishes the sequence and coordination for all the software configuration management activities and all the events affecting the Plan's implement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7B320-4E97-454C-9FC1-11E8174BF9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oftware Configuration Management Plan</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8768C04-9FC6-46E9-8BB8-6804F61364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 2</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s</a:t>
            </a:r>
            <a:endParaRPr b="0" lang="en-US" sz="28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Schedule information shall be expressed as absolute dates, as dates relative to other project activities, as project milestones, or as a simple sequence of events. Graphic representation can be particularly appropriate for conveying this informatio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Identifies the software tools, techniques, equipment, personnel, and training necessary for the implementation of software configuration management activiti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A28272-300C-4B32-A2FE-E40598A95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Plan Maintenanc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Identifies and describes the activities and responsibilities necessary to ensure continued software configuration management planning during the life cycle of the project. This section of the SCM Plan should state the follow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Who is responsible for monitoring the SCM Pla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How frequently updates are to be appli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How changes to the SCM Plan are to be evaluated and approv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How changes to the SCM Plan are to be made and communicated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A45CAD-1B6F-4BDB-85C8-0B1B56681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Plan Approvals</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CA1C64-C0F7-4592-BA22-AE7EF2C8E2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for SCM Plan</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Plan based on IEEE Standard for Software Configuration Management Plans (Std 828-1990) and the IEEE Guide to Software Configuration Management (Std 1042-1987)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Software Process by Watts S. Process, AW, 1989, (Chapter 12.1) [pp.228-23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304D7-9A57-4592-882B-DA845F8BB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oftware Quality Assurance Plan (SQAP)</a:t>
            </a:r>
            <a:endParaRPr b="0" lang="en-US" sz="4600" spc="-1" strike="noStrike">
              <a:solidFill>
                <a:srgbClr val="ffffff"/>
              </a:solidFill>
              <a:latin typeface="Arial"/>
            </a:endParaRPr>
          </a:p>
        </p:txBody>
      </p:sp>
      <p:sp>
        <p:nvSpPr>
          <p:cNvPr id="15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5C75D04-A1D6-4FD8-BF8A-7CC744ADC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Plan</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development and maintenance project should have a software quality assurance plan (SQAP) that specifies:</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oals</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tasks to be performed</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against which the development work is to be measured</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dures and organizational struct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3B9B8C-5A1F-4A12-BC12-66A0C80BA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SQAP Standard - 1</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documen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actices, and convent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s and audi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configuration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A7A18-9323-4A2A-B0E4-834AC983BA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SQAP Standard - 2</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reporting and corrective action</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echniques, and methodologi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control</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r control</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collection, maintenance, and reten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3E2573-5F5A-43C8-8378-1E48F1A08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urpose - 1</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is section documents the purpose of this Software Quality Assurance (SQA) Pl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It documents the goals, processes, and responsibilities required to implement effective quality assurance functions for the current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A5D36C-45FF-490C-B6C8-9D031A5FB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 2</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the scope of the SQAP in different activities of the software life cycle and even through maintenan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B20E71-0D43-4509-93B1-9D30C0F98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SCM Plan</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ce Documents, Definitions, Acronyms</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ies</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s</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 Maintenance</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 Approval</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6B24A42-1AF9-4A87-9D02-A04F6E3FA3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ference Documents</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s the documents referenced in this software quality assurance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FBD26-DE62-49A3-AF90-98AC16E1F8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anagement - 1</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is section describes the management organizational structure, its roles and responsibilities, and the software quality tasks to be performed</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organization</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and responsibilities</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ssurance estimated resourc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7FB76-67B3-4832-9BE3-557466CDCE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2</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Organiz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he support of entities, organizations and personne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entities/roles that are of interest and applicable to this SQA Plan and the software assurance effort specially includ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ffic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 management offi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695AF3-6019-4E1F-94A1-948D64B43F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3</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This section summarizes the tasks (product and process assessments) to be performed during the development, operations, and maintenance of software</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These tasks are selected based on the developer’s Project Schedule, Software Management Plan (SMP) (and/or Software Maintenance Plan) and planned deliverables, contractual deliverables, and identified review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FF3FE2-4165-40C0-9A7C-5177E3699B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4</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 (cont’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essment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packag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Review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Development Folder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figuration Management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esults</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ssessmen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E448BF-EDAD-4ACA-B009-8D92183F6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5</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cont’d)</a:t>
            </a:r>
            <a:endParaRPr b="0" lang="en-US" sz="2400" spc="-1" strike="noStrike">
              <a:solidFill>
                <a:srgbClr val="000000"/>
              </a:solidFill>
              <a:latin typeface="Arial"/>
            </a:endParaRPr>
          </a:p>
          <a:p>
            <a:pPr lvl="1" marL="698400" indent="-2685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ssessments</a:t>
            </a:r>
            <a:endParaRPr b="0" lang="en-US" sz="20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ning</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nd Control</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and Analysis</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ubsystem Reviews </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Reviews</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Management</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nfiguration Management and Configuration Audits</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Management (Verification &amp; Validation)</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Problem Reporting and Corrective Action</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p>
            <a:pPr lvl="2" marL="1074240" indent="-21456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 Agreement Managemen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283169-6A9F-47CE-A2B4-6168F2799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6</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and Responsibiliti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is section describes the roles and responsibilities for each assurance person assigned to a pro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ssurance Manag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Personn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825989-5D1E-4C82-8263-B835F627D6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 7</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ssurance Estimated Resourc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Staffing to support software assurance (i.e., quality, safety, and reliability) activities must be balanced against various project characteristics and constraints, including cost, schedule, maturity level of the providers, criticality of the software being developed, return on investment, perceived risk, etc.</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A88F00-9D07-4526-9EE7-69FA554B0B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Documentation - 1</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is section identifies the minimum documentation governing the requirements, development, verification, validation, and maintenance of software that falls within the scope of this software quality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B9C49-537D-4EE9-A4A5-3E3A8786EC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ion - 2</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Each document below shall be assessed (reviewed) by SQ personnel</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ftware requirements specific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ftware design descrip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ftware verification and validation repo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ocum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C88EE1-E575-496C-A6DC-59E2C14E47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ntroduction - 1</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information provides a simplified overview of the configuration management activities so that those approving, performing, or interacting with the Software Configuration Management Plan can obtain a clear understanding of the SCM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85DDE8-D2AC-4460-9B15-E8EDAB3D48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Standards, Practices, and Conventions</a:t>
            </a:r>
            <a:endParaRPr b="0" lang="en-US" sz="40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is section highlights the standards, practices, quality requirements, and metrics to be applied to ensure a successful software quality progra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is section specifies a minimum content of</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Documentation standa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Logic structure standa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Coding standa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Commentary standard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Quality Progra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etric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714636-51BA-435F-98CF-B6EDB288FC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Reviews and Audits - 1</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is section discusses major project reviews conducted by SQA staff and software team member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 review guidelin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A set of guidelines for all formal technical reviews or inspections is presented in this section</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a review</a:t>
            </a:r>
            <a:endParaRPr b="0" lang="en-US" sz="2800" spc="-1" strike="noStrike">
              <a:solidFill>
                <a:srgbClr val="000000"/>
              </a:solidFill>
              <a:latin typeface="Arial"/>
            </a:endParaRPr>
          </a:p>
          <a:p>
            <a:pPr lvl="2" marL="1085760" indent="-21708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General guidelines for conducting a review</a:t>
            </a:r>
            <a:endParaRPr b="0" lang="en-US" sz="24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66D692-8980-4AA7-8099-2A25BE1545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s and Audits - 2</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nd responsibilities</a:t>
            </a:r>
            <a:endParaRPr b="0" lang="en-US" sz="2400" spc="-1" strike="noStrike">
              <a:solidFill>
                <a:srgbClr val="000000"/>
              </a:solidFill>
              <a:latin typeface="Arial"/>
            </a:endParaRPr>
          </a:p>
          <a:p>
            <a:pPr lvl="2" marL="1119960" indent="-2239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cc"/>
                </a:solidFill>
                <a:latin typeface="Arial"/>
              </a:rPr>
              <a:t>The roles people play during a FTR or inspection and the responsibilities of each player</a:t>
            </a:r>
            <a:endParaRPr b="0" lang="en-US" sz="20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work products</a:t>
            </a:r>
            <a:endParaRPr b="0" lang="en-US" sz="2400" spc="-1" strike="noStrike">
              <a:solidFill>
                <a:srgbClr val="000000"/>
              </a:solidFill>
              <a:latin typeface="Arial"/>
            </a:endParaRPr>
          </a:p>
          <a:p>
            <a:pPr lvl="2" marL="1119960" indent="-2239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cc"/>
                </a:solidFill>
                <a:latin typeface="Arial"/>
              </a:rPr>
              <a:t>Documents, forms, lists produced as a consequence of the FTR/inspection</a:t>
            </a:r>
            <a:endParaRPr b="0" lang="en-US" sz="20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technical reviews/inspections</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ption of the specific character and the intent of each major FTR/inspection conducted during the software process</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C759D7-9FDA-4050-B668-385355AC1A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s and Audits - 3</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audi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A description of audits performed by the SQA group with the intent of assessing how well SQA and software engineering activities are being conducted on a pro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CD88D7-AF80-4660-B886-7DDCFCDEA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Software Configuration Management</a:t>
            </a:r>
            <a:endParaRPr b="0" lang="en-US" sz="40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A brief overview of the content of the software configuration management (SCM) plan is presented he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Alternatively, the SCM plan is referenc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6D8BEE-856C-403A-98A7-9C21D5AA6E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Test</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 personnel will assure that the test management processes and products are being implemented per the Software Management Plan and /or Test Pla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all types of testing of software system components as described in the test plan, specifically during integration testing (verification) and acceptance testing (validatio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DFDE21-1318-4DEE-AF96-EE89119AE9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Problem Reporting and Corrective Action - 1</a:t>
            </a:r>
            <a:endParaRPr b="0" lang="en-US" sz="40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This section describes problem reporting mechanisms that occur as a consequence of the formal technical reviews’ or inspections’ that are conducted and the means for corrective action and follow-u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mechanisms</a:t>
            </a:r>
            <a:endParaRPr b="0" lang="en-US" sz="32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how and to whom problems are reported</a:t>
            </a:r>
            <a:endParaRPr b="0" lang="en-US" sz="28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A9FE0-0206-4A18-B339-7DD52BF709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Reporting and Corrective Action - 2</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i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who has responsibility for corrective actions and follow-up</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and evalu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he manner in which error/defect data are collected and stored for future or real-time evalu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2B978-1522-4F82-A511-4CD5BF021A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Reporting and Corrective Action - 3</a:t>
            </a:r>
            <a:endParaRPr b="0" lang="en-US" sz="40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SQA</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he quantitative techniques that will be applied to error/defect data in an effort to discern trends and improv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33E823-F233-4C56-BFA5-7F3815D436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Tools, Techniques, and Methodologies</a:t>
            </a:r>
            <a:endParaRPr b="0" lang="en-US" sz="40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ed tools, techniques, and methods to be used by the SQA group are described in this se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4FF30-15D5-4897-9BD1-BFC277A162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 2</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the purpose and content of the Configuration Management Plan (i.e., the methodical storage and recording of all software components and deliverables during developmen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M Plan documents methods to be used for the identification of software items, control and implementation of change, and recording and reporting change implementation statu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237829-F4A8-4272-8B2D-E03CEC2604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Media Control</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CA488B-0DD4-4551-97F3-323FD45E6E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Supplier Control</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 personnel will conduct off-site surveillance activities at supplier sites on software development activitie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 personnel will conduct a baseline assessment of the suppliers’ Quality Management Systems (QMS) to ensure that the suppliers’ have quality processes in place.  This initial assessment will help to scope the level of effort and follow-on activities in the area of software quality assura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6B2F06-BF09-4808-9C5B-68C955C0D4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Record Collection, Maintenance, and Retention</a:t>
            </a:r>
            <a:endParaRPr b="0" lang="en-US" sz="40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 personnel will maintain records that document assessments performed on the project.  Maintaining these records will provide objective evidence and traceability of assessments performed throughout the project’s life cycl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records include the process and product assessments reports, completed checklists, the SQA Activity Schedule, metrics, weekly status reports,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C5F719-9301-4F0E-AE96-C7F59E24B0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for SQA Plan</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Software Process by Watts S. Process, AW, 1989, (Chapter 8.4) [pp.147-15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Plan Template by R.S. Pressman &amp; Associates, Inc., </a:t>
            </a:r>
            <a:r>
              <a:rPr b="0" lang="en-US" sz="3200" spc="-1" strike="noStrike" u="sng">
                <a:solidFill>
                  <a:srgbClr val="666699"/>
                </a:solidFill>
                <a:uFillTx/>
                <a:latin typeface="Arial"/>
                <a:hlinkClick r:id="rId1"/>
              </a:rPr>
              <a:t>http://www.rspa.com/docs/sqaplan.htm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template for SQA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5FD791-40F7-474E-8231-211BD8B7F14D}"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 3</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 should describe methods used for:</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software configuration item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and implementation of change</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and reporting change and problem report implementation statu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ng configuration audit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approval cycles as well as approval authority, and</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ersonnel responsible for configuration managemen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9D113C-47C3-4471-ACE6-A20272270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2. Reference Documents, Definitions, Acronyms - 1</a:t>
            </a:r>
            <a:endParaRPr b="0" lang="en-US" sz="43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provides a complete list of documents referenced elsewhere in the text of the SCM Plan. By definition, these documents originate outside the project.  Also included in this section is a glossary of project specific terms and their definitions and a list of project-specific abbreviations and acronyms and their mean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4402F-42BF-4592-B9C6-F9C3F3796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eference Documents, Definitions, Acronyms - 2</a:t>
            </a:r>
            <a:endParaRPr b="0" lang="en-US" sz="43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Docu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ssary of Ter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A286D5-4DDE-45DA-90DD-52745D446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3. Management - 1</a:t>
            </a:r>
            <a:endParaRPr b="0" lang="en-US" sz="47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is section provides information describing the allocation of responsibilities and authorities for software configuration management activities to organizations and individuals within the project struc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ection depicts the organizational context, both technical and managerial, within which the prescribed software configuration management activities are to be implement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CED8C1-E635-4FFE-8D19-CAC16DFEE5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5:58:02Z</dcterms:created>
  <dc:creator>Ghulam Ahmad Farrukh</dc:creator>
  <dc:description/>
  <dc:language>en-US</dc:language>
  <cp:lastModifiedBy>ahmadmohsin</cp:lastModifiedBy>
  <dcterms:modified xsi:type="dcterms:W3CDTF">2009-06-22T05:15:49Z</dcterms:modified>
  <cp:revision>296</cp:revision>
  <dc:subject/>
  <dc:title>SCM and Quality Assurance</dc:title>
</cp:coreProperties>
</file>